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6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6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4EE-2355-419D-9C00-456837FBC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2802-CF47-4371-8593-928E1192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70175-07E3-4A7E-840A-F8A6AAB1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30451-4100-4605-AC4E-960193E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B3BCB-3D9E-4D69-8EA4-B02468FA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B6A2-3BBF-4384-8FCC-FA07C57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57A48-EAE8-4909-A8C2-2027FF4C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229F6-A5FA-4F45-9B93-42B7DAAB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FEC0C-03DD-407B-8EE4-8BCA952B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8E637-EB3A-4CD3-8B12-DD59FA2B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29A0D-43DD-44B5-B817-A9AB4F8D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E112A-7753-4554-AE70-C3EADFDCC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C0F-9211-4171-B440-07A7E226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68E8D-405D-48A2-B0AA-8A708B78C79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0392C7-4A9C-45CD-AAD8-09C6764C12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AE6F7-D4AF-4335-AAA0-5B47B335603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30AB68-A3D5-4EEB-B203-AA9B47B1107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AAD56-5FF1-49BC-9D17-1EFAB40209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1763A-42A5-4A70-8CF5-23FA9439AA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00CD80-86AF-4BB5-BD44-8FC073306F9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E53959-5A04-4335-A836-843F1D028EE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20671F-C5F4-480E-9804-A965A24B2ED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7F69B-933F-4256-9A7D-A2C582C12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053-522B-4853-9ED4-BE3C5A97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F62BB-36B9-4531-A59C-29748E8517E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047007-45ED-48D6-9137-46060FA3DA1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EF3B90-B76B-4CE0-BA9E-265F6B2CD43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C3197-10B4-4B8A-B649-5BD9A5DF9E9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86B04-A590-458F-B20F-D5900F0DBB3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B6FA5E-CA7D-4368-9230-705E7427783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CBC67D-C36B-44B9-BB30-72967D5F1CC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C74269-FA6A-4833-A7E2-69405FDF91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42B2F3-29BB-4FF5-839F-564F1070CE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F6B8CE-7BBC-430D-A92A-1565C39C1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CBD5-A0E2-44BD-9A31-1A1D0595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008C47-0351-4C26-88FF-4488DA3153F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33DA65-BBD1-4190-B1BF-D1B39E72EC1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23DEF3-BD41-42D8-A0AC-CDDC59AD52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6E25-42D0-44B2-B5B2-8323CBF4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DAE-9A41-49A4-9C96-8CA2C1B2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BDAA-649C-405D-B0E1-C776698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2D53-8D1A-4233-85CD-C7DFFA45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C67A-80B6-445E-9C02-5CEB9435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9E05-B761-42FB-A3EB-92A68A50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84A-FF89-4482-95EB-599FFEC2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437A-2DEB-42D5-B456-E9D63D7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0F13-EB89-41AC-8190-73AD97A3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1BC0-882C-42DD-A8E9-6BB47754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745-4071-4966-9E5B-C9ED5BD4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E156-4312-426F-9539-E6923AB4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A73AD-80AF-4831-A31B-6D7A8B8C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EAF6-4F46-468B-A295-0B421CA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470F-6F0A-4C53-A06F-8CDD39C5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603F-F2AB-4285-A642-62C86FA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85A9A-D722-4E2E-9E2D-36ED41BB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BC1-B370-4E6B-9030-E904104B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7336-CFD6-45A0-89F4-F7A9891A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E41B-ECD8-406C-A87E-B40E281B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D900F-5132-4E8A-BCB8-45FC335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3581-19A0-4F9F-9BC8-A09F3A46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FA822-C415-42EC-AA4D-041D10B3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9BCE2-0413-48A6-BCDE-09999225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3B397-2F4C-49E8-9E9F-210C4AEB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23D3-9318-4B98-864F-4BF3F70E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E5BA-9A89-4E84-BCDC-5882825E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BB491-7619-4C59-BA9C-D99A4CA9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420-3FCB-41E7-9024-11DA1DF0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ACB29-10B7-4325-99E6-B3120E77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3203F-EC33-4634-BBAD-E5B65EAC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35B80-4455-47C6-8862-C1607671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44248-F129-4B55-875C-E23440C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25FC-35DC-4BDD-8C1E-5C2BBD6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51408-CC12-457E-82FC-96A82C58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474C6-A224-4022-AAC5-4C4F2314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259C-CA36-42C4-BE19-43EEB775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07100-D5AD-4ED0-89A8-52A3226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39A7D-81EC-4361-B374-3DB6560A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2E6-9575-44BE-BCCF-19A7FADF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91D6-A9B5-491A-A2F6-221FAFC5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EDE2-117A-443D-A38D-BFA91EBE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B4C92-5AFF-48F7-B5C8-598FDA0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7A95E-6741-4BB9-A7A7-8187F4E0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3144-EB05-454B-A161-CB365FB8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1013-5E04-4242-A67F-EF038EB0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D699-E1B3-4560-BB31-0CE07AF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EF539-4CDE-4B3A-B1D0-F7EF38E7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DBA3-45EC-4502-9C98-68ACB693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11F66-E3AD-49E6-8C2D-4577F5D2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436-7FE9-4B91-B7F8-B957C6A4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F02A-6758-446F-9489-D0B4E91E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84923-8D4D-4310-A157-84D37BA3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AE07F-E078-499E-8D2B-5DDA832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335EC-6138-4C6D-920A-BCE6AEAF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E1530-728E-4552-9C9E-08C44CBA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F8EB8-A846-4364-BD9C-B4F27195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0104C-02A3-4931-8FA1-2A08D98C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58D5-77EF-4A08-94BD-D059D91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B0586-1B7D-4453-BE12-F8A0AA1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C4C10-A9FD-48BA-B0F1-824831B0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B06-44E5-4468-B8A2-78E6B49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C845-1C79-4937-B1F0-785A67BD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27FBB-20DE-4740-860E-42E9B130C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45DD-FEB4-4A71-B9EE-B2D29ED1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FF1A-2050-4C45-9A22-FFD9F0A0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063F-8602-46FA-8C25-35D0C24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1E9CA-CADB-4F8E-8464-99FCA5E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C7314-3EFD-4B15-AF89-7B145AF8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C314-E14F-4936-A009-5781299C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5EF1A-9156-495A-A928-01C29B65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2A36-CE02-4448-86D7-4B8B9063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457-D2D7-4FE8-9DF9-B77C33B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4C68-3993-4FD2-811B-0E000693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937A-C263-4852-A24A-7D549EA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1791-83C2-4EE6-98AC-D6A823C7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E0E0D-C0C7-4687-863A-A2A7485A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FA43A-F143-45E0-8B12-295E6574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7A6B-EDC6-4418-BBB0-AE79E9D1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CF203-0DBA-44D4-931B-0467E050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8E60D-EC67-4664-9645-787843B5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EDF1D-EC82-4060-A837-86287FAF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5F738-5C11-4C5F-B5DC-3A73B9D6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29B-224D-4671-87CE-AE18B3A1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38E7-9232-4BE4-9346-D70DEA8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47520-AEB7-4838-B4F8-6DD42C28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ABFC7-54D9-4C05-A2BD-739CDD44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9868-08F5-4C63-9D27-2EED0197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C3F2-7D38-4D46-A3CD-1CCD14F2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06E65-EDE5-412C-995E-C3319A41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48F31-D069-455B-9483-E0F1DC64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FE279-2F7B-4A2A-97A3-7F19036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EFA6C-7B99-4EBD-8BF9-CB71B2D2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AD15-8383-444A-825E-5E159E01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E253-BF1E-4E93-8A79-45C28B279A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EEC-B6A2-4D63-8E58-9243282DEDD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0914-C7CD-4168-8FEF-644740068DF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D2C4-E76E-47DA-ACAC-05B928F715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3E1B-EBA7-4C9D-974D-72493480CA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47CD-5882-4E82-A34C-7CFEF71F7E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BE0A-53AC-4B92-BAC9-345034FA68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A315-37DC-40D9-B9CF-6676E6835C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F550-B39F-4CD6-AAA0-762486401F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C29B-921C-4BEB-BE91-965705CAF30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B03-7E7C-4027-801F-489A9B3250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1239840" y="6245280"/>
            <a:ext cx="66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D0B3-5DD4-4F87-816F-2FE9D06155D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177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7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ADVANCED SQL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3" descr="Noname.gif"/>
          <p:cNvPicPr/>
          <p:nvPr/>
        </p:nvPicPr>
        <p:blipFill>
          <a:blip r:embed="rId2"/>
          <a:stretch/>
        </p:blipFill>
        <p:spPr>
          <a:xfrm>
            <a:off x="457200" y="2522520"/>
            <a:ext cx="8118360" cy="22384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12800" y="4442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NATURAL 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105840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r each customer who placed an order, what is the customer’s name and order numb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51E7-E583-448E-AC6F-ED10C16283F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Group 13"/>
          <p:cNvGrpSpPr/>
          <p:nvPr/>
        </p:nvGrpSpPr>
        <p:grpSpPr>
          <a:xfrm>
            <a:off x="1487520" y="2109960"/>
            <a:ext cx="7070760" cy="1768320"/>
            <a:chOff x="1487520" y="2109960"/>
            <a:chExt cx="7070760" cy="1768320"/>
          </a:xfrm>
        </p:grpSpPr>
        <p:sp>
          <p:nvSpPr>
            <p:cNvPr id="547" name="Rectangle 4"/>
            <p:cNvSpPr/>
            <p:nvPr/>
          </p:nvSpPr>
          <p:spPr>
            <a:xfrm>
              <a:off x="1487520" y="3416400"/>
              <a:ext cx="5024520" cy="4618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3513240" y="2109960"/>
              <a:ext cx="504504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Join involves multiple tables in FROM claus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 flipH="1">
              <a:off x="4997520" y="2554200"/>
              <a:ext cx="63360" cy="78768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0" name="Group 8"/>
          <p:cNvGrpSpPr/>
          <p:nvPr/>
        </p:nvGrpSpPr>
        <p:grpSpPr>
          <a:xfrm>
            <a:off x="612720" y="4025880"/>
            <a:ext cx="6511680" cy="1830960"/>
            <a:chOff x="612720" y="4025880"/>
            <a:chExt cx="6511680" cy="1830960"/>
          </a:xfrm>
        </p:grpSpPr>
        <p:sp>
          <p:nvSpPr>
            <p:cNvPr id="551" name="Text Box 9"/>
            <p:cNvSpPr/>
            <p:nvPr/>
          </p:nvSpPr>
          <p:spPr>
            <a:xfrm>
              <a:off x="802080" y="4848120"/>
              <a:ext cx="3794040" cy="100872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ON clause performs the equality check for common columns of the two tabl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612720" y="4025880"/>
              <a:ext cx="6511680" cy="4208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11"/>
            <p:cNvSpPr/>
            <p:nvPr/>
          </p:nvSpPr>
          <p:spPr>
            <a:xfrm flipV="1">
              <a:off x="3241800" y="4419720"/>
              <a:ext cx="0" cy="4572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Text Box 14"/>
          <p:cNvSpPr/>
          <p:nvPr/>
        </p:nvSpPr>
        <p:spPr>
          <a:xfrm>
            <a:off x="4932360" y="4748040"/>
            <a:ext cx="4100400" cy="1739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rom Fig. 7-1, you see that only 10 Customers have links with ord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10 rows will be returned from this INNER jo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2" descr="Noname.gif"/>
          <p:cNvPicPr/>
          <p:nvPr/>
        </p:nvPicPr>
        <p:blipFill>
          <a:blip r:embed="rId2"/>
          <a:stretch/>
        </p:blipFill>
        <p:spPr>
          <a:xfrm>
            <a:off x="523800" y="2757600"/>
            <a:ext cx="8096400" cy="13428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38280" y="3520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UTER JOIN EXAMPLE 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2949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ist the customer name, ID number, and order number for all customers. Include customer information even for customers that do have an ord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4E1-1584-4BCB-9DF0-6C1ECB9F075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9" name="Group 10"/>
          <p:cNvGrpSpPr/>
          <p:nvPr/>
        </p:nvGrpSpPr>
        <p:grpSpPr>
          <a:xfrm>
            <a:off x="1441440" y="3230640"/>
            <a:ext cx="4482720" cy="2954520"/>
            <a:chOff x="1441440" y="3230640"/>
            <a:chExt cx="4482720" cy="2954520"/>
          </a:xfrm>
        </p:grpSpPr>
        <p:sp>
          <p:nvSpPr>
            <p:cNvPr id="560" name="Text Box 5"/>
            <p:cNvSpPr/>
            <p:nvPr/>
          </p:nvSpPr>
          <p:spPr>
            <a:xfrm>
              <a:off x="1441440" y="4262400"/>
              <a:ext cx="3681360" cy="192276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LEFT OUTER JOIN clause causes customer data to appear even if there is no corresponding order dat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3450960" y="3230640"/>
              <a:ext cx="2473200" cy="3808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2" name="Text Box 11"/>
          <p:cNvSpPr/>
          <p:nvPr/>
        </p:nvSpPr>
        <p:spPr>
          <a:xfrm>
            <a:off x="5551560" y="4414680"/>
            <a:ext cx="2971800" cy="1313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INNER join, this will include customer rows with no matching order 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1CA-195C-4A7E-8DF8-91090D14184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246240" y="110340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uter Join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200160" y="2417760"/>
            <a:ext cx="1965240" cy="33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INNER join, this will include customer rows with no matching order 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6" name="Picture 5" descr="Noname.gif"/>
          <p:cNvPicPr/>
          <p:nvPr/>
        </p:nvPicPr>
        <p:blipFill>
          <a:blip r:embed="rId2"/>
          <a:stretch/>
        </p:blipFill>
        <p:spPr>
          <a:xfrm>
            <a:off x="2428920" y="387360"/>
            <a:ext cx="5532480" cy="587520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647-F545-44BD-8E41-B29D02271D5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2" descr="Noname.gif"/>
          <p:cNvPicPr/>
          <p:nvPr/>
        </p:nvPicPr>
        <p:blipFill>
          <a:blip r:embed="rId2"/>
          <a:stretch/>
        </p:blipFill>
        <p:spPr>
          <a:xfrm>
            <a:off x="395280" y="1806480"/>
            <a:ext cx="84758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65200" y="37260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ULTIPLE TABLE 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098360"/>
            <a:ext cx="914400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emble all information necessary to create an invoice for order number 100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1167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B9E6-9979-4A7D-9F5A-F19C88DA9D5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4" name="Group 12"/>
          <p:cNvGrpSpPr/>
          <p:nvPr/>
        </p:nvGrpSpPr>
        <p:grpSpPr>
          <a:xfrm>
            <a:off x="1295280" y="3333600"/>
            <a:ext cx="7672320" cy="1099440"/>
            <a:chOff x="1295280" y="3333600"/>
            <a:chExt cx="7672320" cy="1099440"/>
          </a:xfrm>
        </p:grpSpPr>
        <p:sp>
          <p:nvSpPr>
            <p:cNvPr id="575" name="Rectangle 4"/>
            <p:cNvSpPr/>
            <p:nvPr/>
          </p:nvSpPr>
          <p:spPr>
            <a:xfrm>
              <a:off x="1295280" y="3531960"/>
              <a:ext cx="5554440" cy="4536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Text Box 5"/>
            <p:cNvSpPr/>
            <p:nvPr/>
          </p:nvSpPr>
          <p:spPr>
            <a:xfrm>
              <a:off x="7336800" y="3333600"/>
              <a:ext cx="1630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0000"/>
                  </a:solidFill>
                  <a:latin typeface="Times New Roman"/>
                </a:rPr>
                <a:t>Four tables involved in this joi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7" name="Group 14"/>
          <p:cNvGrpSpPr/>
          <p:nvPr/>
        </p:nvGrpSpPr>
        <p:grpSpPr>
          <a:xfrm>
            <a:off x="485640" y="3971880"/>
            <a:ext cx="8638920" cy="2298240"/>
            <a:chOff x="485640" y="3971880"/>
            <a:chExt cx="8638920" cy="2298240"/>
          </a:xfrm>
        </p:grpSpPr>
        <p:sp>
          <p:nvSpPr>
            <p:cNvPr id="578" name="Text Box 9"/>
            <p:cNvSpPr/>
            <p:nvPr/>
          </p:nvSpPr>
          <p:spPr>
            <a:xfrm>
              <a:off x="485640" y="5566320"/>
              <a:ext cx="8638920" cy="7038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Each pair of tables requires an equality-check condition in the WHERE clause, matching primary keys against foreign keys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10"/>
            <p:cNvSpPr/>
            <p:nvPr/>
          </p:nvSpPr>
          <p:spPr>
            <a:xfrm>
              <a:off x="717840" y="3971880"/>
              <a:ext cx="6596280" cy="10972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 flipV="1">
              <a:off x="5173920" y="5048280"/>
              <a:ext cx="0" cy="62136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3" descr="Noname.gif"/>
          <p:cNvPicPr/>
          <p:nvPr/>
        </p:nvPicPr>
        <p:blipFill>
          <a:blip r:embed="rId2"/>
          <a:stretch/>
        </p:blipFill>
        <p:spPr>
          <a:xfrm>
            <a:off x="441360" y="1924200"/>
            <a:ext cx="8197920" cy="2993760"/>
          </a:xfrm>
          <a:prstGeom prst="rect">
            <a:avLst/>
          </a:prstGeom>
          <a:ln w="0">
            <a:noFill/>
          </a:ln>
        </p:spPr>
      </p:pic>
      <p:sp>
        <p:nvSpPr>
          <p:cNvPr id="58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2B49-47DF-4C4C-AD04-080C8BC413B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65040" y="58752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4 Results from a four-table join (edited for read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4" name="Group 18"/>
          <p:cNvGrpSpPr/>
          <p:nvPr/>
        </p:nvGrpSpPr>
        <p:grpSpPr>
          <a:xfrm>
            <a:off x="457200" y="1503360"/>
            <a:ext cx="8128080" cy="2001600"/>
            <a:chOff x="457200" y="1503360"/>
            <a:chExt cx="8128080" cy="2001600"/>
          </a:xfrm>
        </p:grpSpPr>
        <p:sp>
          <p:nvSpPr>
            <p:cNvPr id="585" name="Rectangle 5"/>
            <p:cNvSpPr/>
            <p:nvPr/>
          </p:nvSpPr>
          <p:spPr>
            <a:xfrm>
              <a:off x="457200" y="1961640"/>
              <a:ext cx="8128080" cy="15433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Text Box 6"/>
            <p:cNvSpPr/>
            <p:nvPr/>
          </p:nvSpPr>
          <p:spPr>
            <a:xfrm>
              <a:off x="2820600" y="1503360"/>
              <a:ext cx="35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CUSTOMER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7" name="Group 7"/>
          <p:cNvGrpSpPr/>
          <p:nvPr/>
        </p:nvGrpSpPr>
        <p:grpSpPr>
          <a:xfrm>
            <a:off x="457200" y="3500280"/>
            <a:ext cx="3110400" cy="2038320"/>
            <a:chOff x="457200" y="3500280"/>
            <a:chExt cx="3110400" cy="2038320"/>
          </a:xfrm>
        </p:grpSpPr>
        <p:sp>
          <p:nvSpPr>
            <p:cNvPr id="588" name="Rectangle 8"/>
            <p:cNvSpPr/>
            <p:nvPr/>
          </p:nvSpPr>
          <p:spPr>
            <a:xfrm>
              <a:off x="457200" y="3500280"/>
              <a:ext cx="3058920" cy="13874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Text Box 9"/>
            <p:cNvSpPr/>
            <p:nvPr/>
          </p:nvSpPr>
          <p:spPr>
            <a:xfrm>
              <a:off x="610200" y="5078880"/>
              <a:ext cx="29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ORDER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Group 10"/>
          <p:cNvGrpSpPr/>
          <p:nvPr/>
        </p:nvGrpSpPr>
        <p:grpSpPr>
          <a:xfrm>
            <a:off x="3565440" y="3508200"/>
            <a:ext cx="4994280" cy="2023200"/>
            <a:chOff x="3565440" y="3508200"/>
            <a:chExt cx="4994280" cy="2023200"/>
          </a:xfrm>
        </p:grpSpPr>
        <p:sp>
          <p:nvSpPr>
            <p:cNvPr id="591" name="Rectangle 11"/>
            <p:cNvSpPr/>
            <p:nvPr/>
          </p:nvSpPr>
          <p:spPr>
            <a:xfrm>
              <a:off x="3565440" y="3508200"/>
              <a:ext cx="4994280" cy="138456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4289400" y="5071680"/>
              <a:ext cx="33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PRODUCT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LF-JOIN EXAMPL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A15A-5358-4401-9862-4C69B2F1AB1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5" name="Picture 4" descr="Noname.gif"/>
          <p:cNvPicPr/>
          <p:nvPr/>
        </p:nvPicPr>
        <p:blipFill>
          <a:blip r:embed="rId2"/>
          <a:stretch/>
        </p:blipFill>
        <p:spPr>
          <a:xfrm>
            <a:off x="298440" y="1171440"/>
            <a:ext cx="8472600" cy="46245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4"/>
          <p:cNvSpPr/>
          <p:nvPr/>
        </p:nvSpPr>
        <p:spPr>
          <a:xfrm>
            <a:off x="1476360" y="2759040"/>
            <a:ext cx="3236760" cy="3319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418440" y="2827440"/>
            <a:ext cx="2635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same table is used on both sides of the join; distinguished using table ali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398520" y="5735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elf-joins are usually used on tables with unary relationshi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B87C-5D59-4535-87A7-03C6E2AA53A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3" descr="Noname.jpg"/>
          <p:cNvPicPr/>
          <p:nvPr/>
        </p:nvPicPr>
        <p:blipFill>
          <a:blip r:embed="rId2"/>
          <a:stretch/>
        </p:blipFill>
        <p:spPr>
          <a:xfrm>
            <a:off x="1011240" y="1371600"/>
            <a:ext cx="7589880" cy="4653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1240200" y="5508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5 Example of a self-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79400" y="434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PROCESSING MULTIPLE TAB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USING SUBQUERI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838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query–placing an inner query (SELECT statement) inside an outer qu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ption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 a condition of the WHERE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 a “table” of the FROM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thin the HAVING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queries can be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ncorrelated–executed once for the entire outer que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rrelated–executed once for each row returned by the outer que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1FA6-38A7-4844-880D-DB7B21657BB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3" descr="Noname.gif"/>
          <p:cNvPicPr/>
          <p:nvPr/>
        </p:nvPicPr>
        <p:blipFill>
          <a:blip r:embed="rId2"/>
          <a:stretch/>
        </p:blipFill>
        <p:spPr>
          <a:xfrm>
            <a:off x="127080" y="1832040"/>
            <a:ext cx="7472160" cy="282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7800" y="376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UBQUERY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09980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w all customers who have placed an ord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81E5-6032-4135-AB21-87E0338410D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9" name="Group 4"/>
          <p:cNvGrpSpPr/>
          <p:nvPr/>
        </p:nvGrpSpPr>
        <p:grpSpPr>
          <a:xfrm>
            <a:off x="457200" y="3562200"/>
            <a:ext cx="6968880" cy="2545200"/>
            <a:chOff x="457200" y="3562200"/>
            <a:chExt cx="6968880" cy="2545200"/>
          </a:xfrm>
        </p:grpSpPr>
        <p:sp>
          <p:nvSpPr>
            <p:cNvPr id="610" name="Text Box 5"/>
            <p:cNvSpPr/>
            <p:nvPr/>
          </p:nvSpPr>
          <p:spPr>
            <a:xfrm>
              <a:off x="457200" y="4916160"/>
              <a:ext cx="529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Subquery is embedded in parentheses. In this case it returns a list that will be used in the WHERE clause of the outer que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1703160" y="3562200"/>
              <a:ext cx="5722920" cy="8827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7"/>
            <p:cNvSpPr/>
            <p:nvPr/>
          </p:nvSpPr>
          <p:spPr>
            <a:xfrm flipV="1">
              <a:off x="1920240" y="4471920"/>
              <a:ext cx="0" cy="4572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3" name="Text Box 10"/>
          <p:cNvSpPr/>
          <p:nvPr/>
        </p:nvSpPr>
        <p:spPr>
          <a:xfrm>
            <a:off x="5438880" y="1539720"/>
            <a:ext cx="3689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IN operator will test to see if the CUSTOMER_ID value of a row is included in the list returned from the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Picture 12" descr="Noname.jpg"/>
          <p:cNvPicPr/>
          <p:nvPr/>
        </p:nvPicPr>
        <p:blipFill>
          <a:blip r:embed="rId3"/>
          <a:stretch/>
        </p:blipFill>
        <p:spPr>
          <a:xfrm>
            <a:off x="7024680" y="3984480"/>
            <a:ext cx="204012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7800" y="376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JOIN VS. SUBQUERY 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120780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queries could be accomplished by either a join or a sub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E2D-988E-45DB-B29C-7749C64FD0A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Picture 12" descr="Noname.jpg"/>
          <p:cNvPicPr/>
          <p:nvPr/>
        </p:nvPicPr>
        <p:blipFill>
          <a:blip r:embed="rId2"/>
          <a:stretch/>
        </p:blipFill>
        <p:spPr>
          <a:xfrm>
            <a:off x="615960" y="2847960"/>
            <a:ext cx="5595840" cy="1495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3" descr="Noname.jpg"/>
          <p:cNvPicPr/>
          <p:nvPr/>
        </p:nvPicPr>
        <p:blipFill>
          <a:blip r:embed="rId3"/>
          <a:stretch/>
        </p:blipFill>
        <p:spPr>
          <a:xfrm>
            <a:off x="771480" y="2155680"/>
            <a:ext cx="7607520" cy="520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4" descr="Noname.jpg"/>
          <p:cNvPicPr/>
          <p:nvPr/>
        </p:nvPicPr>
        <p:blipFill>
          <a:blip r:embed="rId4"/>
          <a:stretch/>
        </p:blipFill>
        <p:spPr>
          <a:xfrm>
            <a:off x="3740040" y="4443480"/>
            <a:ext cx="4972320" cy="17622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2"/>
          <p:cNvSpPr/>
          <p:nvPr/>
        </p:nvSpPr>
        <p:spPr>
          <a:xfrm>
            <a:off x="6359400" y="309564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Join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1197000" y="5197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ubquery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22200" y="1332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rite single and multiple table SQL queri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e and use three types of joi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rite noncorrelated and correlated subqueri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derstand and use SQL in procedural languages (e.g. PHP, PL/SQL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derstand triggers and stored procedur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iscuss SQL:2008 standard and its enhancements and extensio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9BB8-7896-4915-A37C-4F469C10F8C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58720" y="329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0BA1-0679-41DC-8DD2-A3F4854B70F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7" descr="Noname.jpg"/>
          <p:cNvPicPr/>
          <p:nvPr/>
        </p:nvPicPr>
        <p:blipFill>
          <a:blip r:embed="rId2"/>
          <a:stretch/>
        </p:blipFill>
        <p:spPr>
          <a:xfrm>
            <a:off x="701640" y="1165320"/>
            <a:ext cx="7945560" cy="5100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8"/>
          <p:cNvSpPr/>
          <p:nvPr/>
        </p:nvSpPr>
        <p:spPr>
          <a:xfrm>
            <a:off x="1290600" y="2286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6 Graphical depiction of two ways to answer a query with different types of j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F5A4-46E3-4024-A4B9-767B321C649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Box 18"/>
          <p:cNvSpPr/>
          <p:nvPr/>
        </p:nvSpPr>
        <p:spPr>
          <a:xfrm>
            <a:off x="1290600" y="2286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6 Graphical depiction of two ways to answer a query with different types of j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8" name="Picture 4" descr="Noname.jpg"/>
          <p:cNvPicPr/>
          <p:nvPr/>
        </p:nvPicPr>
        <p:blipFill>
          <a:blip r:embed="rId2"/>
          <a:stretch/>
        </p:blipFill>
        <p:spPr>
          <a:xfrm>
            <a:off x="496800" y="1274760"/>
            <a:ext cx="8074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84200" y="43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RRELATED VS. NONCORRELATED SUB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95200" y="1899720"/>
            <a:ext cx="875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Noncorrelated subquer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 not depend on data from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e once for the entir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orrelated subquer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ke use of data from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e once for each row of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n use the EXISTS operato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4D5-AF3B-448A-BE2C-1C9B9F8CBD2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Noname.gif"/>
          <p:cNvPicPr/>
          <p:nvPr/>
        </p:nvPicPr>
        <p:blipFill>
          <a:blip r:embed="rId2"/>
          <a:stretch/>
        </p:blipFill>
        <p:spPr>
          <a:xfrm>
            <a:off x="552600" y="598320"/>
            <a:ext cx="7883280" cy="517212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545E-B04E-4AED-A192-C58B30EA66F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332000" y="1555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8a Processing a noncorrelated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271800" y="5911920"/>
            <a:ext cx="87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 noncorrelated subquery processes completely before the outer query beg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998-0E6C-4F95-BEB1-278CCD2FD6E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14" descr="Noname.jpg"/>
          <p:cNvPicPr/>
          <p:nvPr/>
        </p:nvPicPr>
        <p:blipFill>
          <a:blip r:embed="rId2"/>
          <a:stretch/>
        </p:blipFill>
        <p:spPr>
          <a:xfrm>
            <a:off x="836640" y="3170160"/>
            <a:ext cx="6230880" cy="1846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8200" y="363600"/>
            <a:ext cx="8431200" cy="6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RRELATED SUBQUERY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1295280"/>
            <a:ext cx="91440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how all orders that include furniture finished in natural ash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D86-9607-4744-83EE-9853D4BED0E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4773600" y="4278240"/>
            <a:ext cx="4370040" cy="1999440"/>
            <a:chOff x="4773600" y="4278240"/>
            <a:chExt cx="4370040" cy="1999440"/>
          </a:xfrm>
        </p:grpSpPr>
        <p:sp>
          <p:nvSpPr>
            <p:cNvPr id="644" name="Text Box 5"/>
            <p:cNvSpPr/>
            <p:nvPr/>
          </p:nvSpPr>
          <p:spPr>
            <a:xfrm>
              <a:off x="6288840" y="5268960"/>
              <a:ext cx="285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The subquery is testing for a value that comes from the outer query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Rectangle 6"/>
            <p:cNvSpPr/>
            <p:nvPr/>
          </p:nvSpPr>
          <p:spPr>
            <a:xfrm>
              <a:off x="4773600" y="4278240"/>
              <a:ext cx="2232000" cy="3812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 flipV="1">
              <a:off x="6830640" y="4748400"/>
              <a:ext cx="0" cy="4572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7" name="Group 8"/>
          <p:cNvGrpSpPr/>
          <p:nvPr/>
        </p:nvGrpSpPr>
        <p:grpSpPr>
          <a:xfrm>
            <a:off x="1757520" y="1998720"/>
            <a:ext cx="5654520" cy="1779480"/>
            <a:chOff x="1757520" y="1998720"/>
            <a:chExt cx="5654520" cy="1779480"/>
          </a:xfrm>
        </p:grpSpPr>
        <p:sp>
          <p:nvSpPr>
            <p:cNvPr id="648" name="Rectangle 9"/>
            <p:cNvSpPr/>
            <p:nvPr/>
          </p:nvSpPr>
          <p:spPr>
            <a:xfrm>
              <a:off x="1757520" y="3495600"/>
              <a:ext cx="878040" cy="2826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Text Box 10"/>
            <p:cNvSpPr/>
            <p:nvPr/>
          </p:nvSpPr>
          <p:spPr>
            <a:xfrm>
              <a:off x="3814920" y="1998720"/>
              <a:ext cx="359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The EXISTS operator will return a TRUE value if the subquery resulted in a non-empty set, otherwise it returns a FAL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Line 11"/>
            <p:cNvSpPr/>
            <p:nvPr/>
          </p:nvSpPr>
          <p:spPr>
            <a:xfrm flipH="1">
              <a:off x="2635560" y="2367000"/>
              <a:ext cx="1241280" cy="11556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TextBox 12"/>
          <p:cNvSpPr/>
          <p:nvPr/>
        </p:nvSpPr>
        <p:spPr>
          <a:xfrm>
            <a:off x="255600" y="5291280"/>
            <a:ext cx="44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 correlated subquery always refers to an attribute from a table referenced in the outer qu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6" descr="Noname.gif"/>
          <p:cNvPicPr/>
          <p:nvPr/>
        </p:nvPicPr>
        <p:blipFill>
          <a:blip r:embed="rId2"/>
          <a:stretch/>
        </p:blipFill>
        <p:spPr>
          <a:xfrm>
            <a:off x="2163600" y="177840"/>
            <a:ext cx="6456600" cy="608184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D326-0081-4C89-92D7-2E6868F5757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28760" y="5335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8b Processing a correlated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2271600" y="1393920"/>
            <a:ext cx="322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ubquery refers to outer-query data, so executes once for each row of outer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28600" y="281628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Note: Only the orders that involve products with Natural Ash will be included in the final resul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514E-CAA8-44AD-860D-BA7C0B542CC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5" descr="Noname.gif"/>
          <p:cNvPicPr/>
          <p:nvPr/>
        </p:nvPicPr>
        <p:blipFill>
          <a:blip r:embed="rId2"/>
          <a:stretch/>
        </p:blipFill>
        <p:spPr>
          <a:xfrm>
            <a:off x="270000" y="3198960"/>
            <a:ext cx="8075520" cy="19778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2200" y="344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ANOTHER SUBQUERY EXAMPL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12600" y="1049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how all products whose standard price is higher than the average pri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42F7-710B-4B32-BCD7-0F44060AC3D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380880" y="4738680"/>
            <a:ext cx="8229600" cy="1469520"/>
            <a:chOff x="380880" y="4738680"/>
            <a:chExt cx="8229600" cy="1469520"/>
          </a:xfrm>
        </p:grpSpPr>
        <p:sp>
          <p:nvSpPr>
            <p:cNvPr id="665" name="Text Box 5"/>
            <p:cNvSpPr/>
            <p:nvPr/>
          </p:nvSpPr>
          <p:spPr>
            <a:xfrm>
              <a:off x="380880" y="529128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The WHERE clause normally cannot include aggregate functions, but because the aggregate is performed in the subquery its result can be used in the outer query’s WHERE clause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1558800" y="4738680"/>
              <a:ext cx="3902040" cy="3524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7" name="Group 20"/>
          <p:cNvGrpSpPr/>
          <p:nvPr/>
        </p:nvGrpSpPr>
        <p:grpSpPr>
          <a:xfrm>
            <a:off x="1863720" y="1798560"/>
            <a:ext cx="7176960" cy="2566800"/>
            <a:chOff x="1863720" y="1798560"/>
            <a:chExt cx="7176960" cy="2566800"/>
          </a:xfrm>
        </p:grpSpPr>
        <p:sp>
          <p:nvSpPr>
            <p:cNvPr id="668" name="Rectangle 9"/>
            <p:cNvSpPr/>
            <p:nvPr/>
          </p:nvSpPr>
          <p:spPr>
            <a:xfrm>
              <a:off x="1863720" y="4022640"/>
              <a:ext cx="4279680" cy="3427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4732200" y="1798560"/>
              <a:ext cx="4308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One column of the subquery is an aggregate function that has an alias name. That alias can then be referred to in the outer query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 flipH="1">
              <a:off x="3615840" y="2651040"/>
              <a:ext cx="1143000" cy="13716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1" name="Group 19"/>
          <p:cNvGrpSpPr/>
          <p:nvPr/>
        </p:nvGrpSpPr>
        <p:grpSpPr>
          <a:xfrm>
            <a:off x="228600" y="2065320"/>
            <a:ext cx="8116920" cy="2583000"/>
            <a:chOff x="228600" y="2065320"/>
            <a:chExt cx="8116920" cy="2583000"/>
          </a:xfrm>
        </p:grpSpPr>
        <p:sp>
          <p:nvSpPr>
            <p:cNvPr id="672" name="Rectangle 13"/>
            <p:cNvSpPr/>
            <p:nvPr/>
          </p:nvSpPr>
          <p:spPr>
            <a:xfrm>
              <a:off x="754200" y="3962520"/>
              <a:ext cx="7591320" cy="6858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Text Box 14"/>
            <p:cNvSpPr/>
            <p:nvPr/>
          </p:nvSpPr>
          <p:spPr>
            <a:xfrm>
              <a:off x="228600" y="2065320"/>
              <a:ext cx="3368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Subquery forms the derived table used in the FROM clause of the outer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2170080" y="2994120"/>
              <a:ext cx="0" cy="91440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4" descr="Noname.gif"/>
          <p:cNvPicPr/>
          <p:nvPr/>
        </p:nvPicPr>
        <p:blipFill>
          <a:blip r:embed="rId2"/>
          <a:stretch/>
        </p:blipFill>
        <p:spPr>
          <a:xfrm>
            <a:off x="1625760" y="1809720"/>
            <a:ext cx="6886440" cy="451332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12800" y="361440"/>
            <a:ext cx="6897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NION 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1280" y="981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Combine the output (union of multiple queries) together into a single result tabl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E114-1709-4C4C-9542-8D385F9D030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9" name="Group 9"/>
          <p:cNvGrpSpPr/>
          <p:nvPr/>
        </p:nvGrpSpPr>
        <p:grpSpPr>
          <a:xfrm>
            <a:off x="1600200" y="1893960"/>
            <a:ext cx="6858000" cy="1995120"/>
            <a:chOff x="1600200" y="1893960"/>
            <a:chExt cx="6858000" cy="1995120"/>
          </a:xfrm>
        </p:grpSpPr>
        <p:sp>
          <p:nvSpPr>
            <p:cNvPr id="680" name="Rectangle 5"/>
            <p:cNvSpPr/>
            <p:nvPr/>
          </p:nvSpPr>
          <p:spPr>
            <a:xfrm>
              <a:off x="1600200" y="1893960"/>
              <a:ext cx="6858000" cy="1995120"/>
            </a:xfrm>
            <a:prstGeom prst="rect">
              <a:avLst/>
            </a:prstGeom>
            <a:noFill/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6807240" y="2867760"/>
              <a:ext cx="13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First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0"/>
          <p:cNvGrpSpPr/>
          <p:nvPr/>
        </p:nvGrpSpPr>
        <p:grpSpPr>
          <a:xfrm>
            <a:off x="1600200" y="4140360"/>
            <a:ext cx="6860880" cy="2064960"/>
            <a:chOff x="1600200" y="4140360"/>
            <a:chExt cx="6860880" cy="2064960"/>
          </a:xfrm>
        </p:grpSpPr>
        <p:sp>
          <p:nvSpPr>
            <p:cNvPr id="683" name="Rectangle 6"/>
            <p:cNvSpPr/>
            <p:nvPr/>
          </p:nvSpPr>
          <p:spPr>
            <a:xfrm>
              <a:off x="1600200" y="4140360"/>
              <a:ext cx="6858000" cy="2064960"/>
            </a:xfrm>
            <a:prstGeom prst="rect">
              <a:avLst/>
            </a:prstGeom>
            <a:noFill/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8"/>
            <p:cNvSpPr/>
            <p:nvPr/>
          </p:nvSpPr>
          <p:spPr>
            <a:xfrm>
              <a:off x="6812640" y="5073120"/>
              <a:ext cx="164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Second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13"/>
          <p:cNvGrpSpPr/>
          <p:nvPr/>
        </p:nvGrpSpPr>
        <p:grpSpPr>
          <a:xfrm>
            <a:off x="-28080" y="3870360"/>
            <a:ext cx="1715760" cy="368280"/>
            <a:chOff x="-28080" y="3870360"/>
            <a:chExt cx="1715760" cy="368280"/>
          </a:xfrm>
        </p:grpSpPr>
        <p:sp>
          <p:nvSpPr>
            <p:cNvPr id="686" name="Text Box 11"/>
            <p:cNvSpPr/>
            <p:nvPr/>
          </p:nvSpPr>
          <p:spPr>
            <a:xfrm>
              <a:off x="-28080" y="387036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Comb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Line 12"/>
            <p:cNvSpPr/>
            <p:nvPr/>
          </p:nvSpPr>
          <p:spPr>
            <a:xfrm>
              <a:off x="1077840" y="4022640"/>
              <a:ext cx="60984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40FA-72FE-4A89-B5F5-0BA99300E8D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017000" y="19368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9 Combining queries using UN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0" name="Picture 4" descr="Noname.gif"/>
          <p:cNvPicPr/>
          <p:nvPr/>
        </p:nvPicPr>
        <p:blipFill>
          <a:blip r:embed="rId2"/>
          <a:stretch/>
        </p:blipFill>
        <p:spPr>
          <a:xfrm>
            <a:off x="163440" y="676440"/>
            <a:ext cx="8426520" cy="5454360"/>
          </a:xfrm>
          <a:prstGeom prst="rect">
            <a:avLst/>
          </a:prstGeom>
          <a:ln w="0">
            <a:noFill/>
          </a:ln>
        </p:spPr>
      </p:pic>
      <p:sp>
        <p:nvSpPr>
          <p:cNvPr id="691" name="TextBox 5"/>
          <p:cNvSpPr/>
          <p:nvPr/>
        </p:nvSpPr>
        <p:spPr>
          <a:xfrm>
            <a:off x="6826320" y="1995480"/>
            <a:ext cx="21510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Note: With UNION queries, the quantity and data types of the attributes in the SELECT clauses of both queries must be ident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1120680" y="3463920"/>
            <a:ext cx="5073840" cy="2318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1131840" y="900000"/>
            <a:ext cx="5886360" cy="1954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9298-0DCE-4C1D-9316-F0E132BADA9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7840" y="455760"/>
            <a:ext cx="8605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NDITIONAL EXPRESSIONS USING CASE SYNTAX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36600" y="1869840"/>
            <a:ext cx="403848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is is available with newer versions of SQL, previously not part of the standar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gure 7-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A975-7B89-45E0-A34C-25A974C5589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0" name="Picture 5" descr="Noname.jpg"/>
          <p:cNvPicPr/>
          <p:nvPr/>
        </p:nvPicPr>
        <p:blipFill>
          <a:blip r:embed="rId2"/>
          <a:stretch/>
        </p:blipFill>
        <p:spPr>
          <a:xfrm>
            <a:off x="4287960" y="148752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Noname.gif"/>
          <p:cNvPicPr/>
          <p:nvPr/>
        </p:nvPicPr>
        <p:blipFill>
          <a:blip r:embed="rId3"/>
          <a:stretch/>
        </p:blipFill>
        <p:spPr>
          <a:xfrm>
            <a:off x="1687680" y="4646520"/>
            <a:ext cx="54864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376200"/>
            <a:ext cx="7799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OCESSING MULTIPLE TAB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96800" y="139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 relational operation that causes two or more tables with a common domain to be combined into a single table or view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qui-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 join in which the joining condition is based on equality between values in the common columns; common columns appear redundantly in the result tabl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Natural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n equi-join in which one of the duplicate columns is eliminated in the result tabl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2A12-81EA-466C-9A9B-1B628D5DC57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93760" y="5070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common columns in joined tables are usually the primary key of the dominant table and the foreign key of the dependent table in 1:M relationshi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98480" y="3218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IPS FOR DEVELOPING 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12800" y="1192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Be familiar with the data model (entities and relationships)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Understand the desired result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Know the attributes desired in result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Identify the entities that contain desired attribute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Review ERD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Construct a WHERE equality for each link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Fine tune with GROUP BY and HAVING clauses if needed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Consider the effect on unusual data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D1C5-B1C5-4FE6-B179-7D83CA751F4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QUERY EFFICIENCY CONSIDERA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517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ead of SELECT *, identify the specific attributes in the SELECT clause; this helps reduce network traffic of result s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 the number of subqueries; try to make everything done in a single query if possi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f data is to be used many times, make a separate query and store it as a vie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C669-54AC-4C76-B5F7-6DBEED63B7C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92200" y="447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UIDELINES FOR BETTER QUERY DESIG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30200" y="1817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nderstand how indexes are used in query process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ep optimizer statistics up-to-da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 compatible data types for fields and litera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e simple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eak complex queries into multiple simple pa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nest one query inside another qu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combine a query with itself (if possible avoid self-join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420A-FBF4-47F7-85F5-D12A115A5E2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UIDELINES FOR BETTER QUERY DESIGN (CONT.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03200" y="205236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emporary tables for groups of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bine update oper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trieve only the data you ne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have the DBMS sort without an index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arn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sider the total query processing time for ad hoc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BF1E-EB01-4509-91A8-BB1923EEA64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39060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NSURING TRANSACTION INTEG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ransaction = A discrete unit of work that must be completely processed or not processed at al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y involve multiple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y update fails, then all other updates must be cancell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QL commands for transac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EGIN TRANSACTION/END TRANSA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rks boundaries of a transa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MMI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kes all updates perman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OLLBAC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ncels updates since the last COMMI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FC0E-EF93-4F21-B147-86834246A52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432-75E1-46E2-BC52-7B395341EEB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000440" y="193680"/>
            <a:ext cx="74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2 An SQL Transaction sequence (in pseudo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9" name="Picture 4" descr="Noname.gif"/>
          <p:cNvPicPr/>
          <p:nvPr/>
        </p:nvPicPr>
        <p:blipFill>
          <a:blip r:embed="rId2"/>
          <a:stretch/>
        </p:blipFill>
        <p:spPr>
          <a:xfrm>
            <a:off x="895320" y="695160"/>
            <a:ext cx="7321680" cy="551520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3D68-426D-4240-8C7B-E8B7E9B3CFD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39800" y="353520"/>
            <a:ext cx="7354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DICTIONARY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01120" y="1170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tem tables that store meta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s usually can view some of these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s are restricted from updating th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me examples in Oracle 11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TABLES – descriptions of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CONSTRAINTS – description of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USERS – information about the users of the syst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s in Microsoft SQL Server 200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columns – table and column defini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indexes – table index inform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foreign_key_columns – details about columns in foreign key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89E7-CE8B-434E-BA77-F0602A82DA3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:2008 ENHANCEMENTS/EXTENS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16000" y="1679040"/>
            <a:ext cx="892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-defined data types (UDT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ubclasses of standard types or an object typ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nalytical functions (for OLAP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ILING, FLOOR, SQRT, RANK, DENSE_RANK, ROLLUP, CUBE, SAMPLE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NDOW–improved numerical analysis capabilit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w Data Typ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IGINT, MULTISET (collection), XM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ABLE LIKE–create a new table similar to an existing o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R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CF17-CBC8-40E7-8B7A-733E36AA763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gramming exten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sistent Stored Modules (SQL/PS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pability to create and drop code modu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w statemen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SE, IF, LOOP, FOR, WHILE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kes SQL into a procedural langua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racle has propriety version called PL/SQL, and Microsoft SQL Server has Transact/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33BF-B57C-4BD7-810F-61FD51B9A9E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:2008 ENHANCEMENTS (CONT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25400" y="3758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OUTINES AND TRIGGER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3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outin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gram modules that execute on dem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Function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return values and take input parame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Procedur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do not return values and can take input or output parame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rigger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execute in response to a database event (INSERT, UPDATE, or DELET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890-C9B8-42FD-85CD-8EE43068AB3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6440" y="33624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OCESSING MULTIPLE TAB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4112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Outer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join in which rows that do not have matching values in common columns are nonetheless included in the result table (as opposed to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nne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join, in which rows must have matching values in order to appear in the result table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nion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s all columns from each table in the join, and an instance for each row of each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A831-0CD4-43CA-9E38-E36DFD25D94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Noname.jpg"/>
          <p:cNvPicPr/>
          <p:nvPr/>
        </p:nvPicPr>
        <p:blipFill>
          <a:blip r:embed="rId2"/>
          <a:stretch/>
        </p:blipFill>
        <p:spPr>
          <a:xfrm>
            <a:off x="1239840" y="787320"/>
            <a:ext cx="7391520" cy="542916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D63A-27F1-4BA5-B976-C613886A311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147600" y="19080"/>
            <a:ext cx="87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7-13 Triggers contrasted with stored procedures (based on Mullins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2764080" y="8636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ocedures are called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348000" y="57024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ggers are event-dri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1143000" y="60199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adapted from Mullins, 1995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6648-E04D-44AE-A167-FD036B1C783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Noname.jpg"/>
          <p:cNvPicPr/>
          <p:nvPr/>
        </p:nvPicPr>
        <p:blipFill>
          <a:blip r:embed="rId2"/>
          <a:stretch/>
        </p:blipFill>
        <p:spPr>
          <a:xfrm>
            <a:off x="1157400" y="3116160"/>
            <a:ext cx="6829200" cy="3238560"/>
          </a:xfrm>
          <a:prstGeom prst="rect">
            <a:avLst/>
          </a:prstGeom>
          <a:ln w="0">
            <a:noFill/>
          </a:ln>
        </p:spPr>
      </p:pic>
      <p:sp>
        <p:nvSpPr>
          <p:cNvPr id="74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776C-A7B7-45E0-9206-4403BF342FD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395360" y="3808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4 Simplified trigger syntax, SQL: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315800" y="266400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5 Syntax for creating a routine, SQL: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8" name="Picture 6" descr="Noname.jpg"/>
          <p:cNvPicPr/>
          <p:nvPr/>
        </p:nvPicPr>
        <p:blipFill>
          <a:blip r:embed="rId3"/>
          <a:stretch/>
        </p:blipFill>
        <p:spPr>
          <a:xfrm>
            <a:off x="826920" y="895320"/>
            <a:ext cx="7444080" cy="1514520"/>
          </a:xfrm>
          <a:prstGeom prst="rect">
            <a:avLst/>
          </a:prstGeom>
          <a:ln w="0">
            <a:noFill/>
          </a:ln>
        </p:spPr>
      </p:pic>
      <p:sp>
        <p:nvSpPr>
          <p:cNvPr id="74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7332-A7AB-4B67-B9E7-9000DE7441D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6D73-448D-4133-A130-D4483D3DB08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3" name="Picture 2" descr="Noname.gif"/>
          <p:cNvPicPr/>
          <p:nvPr/>
        </p:nvPicPr>
        <p:blipFill>
          <a:blip r:embed="rId2"/>
          <a:stretch/>
        </p:blipFill>
        <p:spPr>
          <a:xfrm>
            <a:off x="642960" y="257040"/>
            <a:ext cx="7858080" cy="5829480"/>
          </a:xfrm>
          <a:prstGeom prst="rect">
            <a:avLst/>
          </a:prstGeom>
          <a:ln w="0">
            <a:noFill/>
          </a:ln>
        </p:spPr>
      </p:pic>
      <p:sp>
        <p:nvSpPr>
          <p:cNvPr id="75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C92-AFB4-400C-B03B-6F1CA768515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25520" y="40320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MBEDDED AND DYNAMIC SQL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68200" y="1419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mbedded SQ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luding hard-coded SQL statements in a program written in another language such as C or Ja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ynamic SQ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bility for an application program to generate SQL code on the fly, as the application is runn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8C5-5317-42E3-92C9-4AE0D9A1326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20560" y="363600"/>
            <a:ext cx="7817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ASONS TO EMBED SQL IN 3GL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n create a more flexible, accessible interface for the use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ssible performance improve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base security improvement; grant access only to the application instead of user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ED68-F457-41E1-8FF1-6E0F1DA9B1E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6590-06B9-4CDD-B5D1-69CBACCD3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4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5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D0FE-C38E-4093-B18F-C5A2F559C85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8" name="Picture 4" descr="Noname.jpg"/>
          <p:cNvPicPr/>
          <p:nvPr/>
        </p:nvPicPr>
        <p:blipFill>
          <a:blip r:embed="rId2"/>
          <a:stretch/>
        </p:blipFill>
        <p:spPr>
          <a:xfrm>
            <a:off x="641520" y="1973160"/>
            <a:ext cx="8010360" cy="424836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4"/>
          <p:cNvSpPr/>
          <p:nvPr/>
        </p:nvSpPr>
        <p:spPr>
          <a:xfrm>
            <a:off x="673200" y="619200"/>
            <a:ext cx="79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ization of different join types with results returned in shaded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98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FOLLOWING SLIDES CREATE TABLES FOR THIS ENTERPRISE DATA MODEL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0A4-05B0-472E-84F0-657E1A06734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7" descr="Noname.gif"/>
          <p:cNvPicPr/>
          <p:nvPr/>
        </p:nvPicPr>
        <p:blipFill>
          <a:blip r:embed="rId2"/>
          <a:stretch/>
        </p:blipFill>
        <p:spPr>
          <a:xfrm>
            <a:off x="414360" y="1519200"/>
            <a:ext cx="8250120" cy="4491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"/>
          <p:cNvSpPr/>
          <p:nvPr/>
        </p:nvSpPr>
        <p:spPr>
          <a:xfrm>
            <a:off x="3659400" y="162576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(from Chapter 1, Figure 1-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4108-E06D-42E8-8D36-9103C3E0A7C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639800" y="53341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hese tables are used in queries that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365040" y="763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 Pine Valley Furniture Company Customer_T and Order_T tables with pointers from customers to their or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5" descr="Noname.gif"/>
          <p:cNvPicPr/>
          <p:nvPr/>
        </p:nvPicPr>
        <p:blipFill>
          <a:blip r:embed="rId2"/>
          <a:stretch/>
        </p:blipFill>
        <p:spPr>
          <a:xfrm>
            <a:off x="361800" y="1301760"/>
            <a:ext cx="8420400" cy="3900600"/>
          </a:xfrm>
          <a:prstGeom prst="rect">
            <a:avLst/>
          </a:prstGeom>
          <a:ln w="0">
            <a:noFill/>
          </a:ln>
        </p:spPr>
      </p:pic>
      <p:sp>
        <p:nvSpPr>
          <p:cNvPr id="528" name="Slide Number Placeholder 4"/>
          <p:cNvSpPr/>
          <p:nvPr/>
        </p:nvSpPr>
        <p:spPr>
          <a:xfrm>
            <a:off x="8229600" y="64897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A9D7-949C-4948-B508-28DF6968B01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441000" y="6275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1447920" y="61848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QUI-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76200" y="101232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r each customer who placed an order, what is the customer’s name and order numb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ED65-0D02-4442-8E67-C753035039E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4" name="Picture 4" descr="Noname.gif"/>
          <p:cNvPicPr/>
          <p:nvPr/>
        </p:nvPicPr>
        <p:blipFill>
          <a:blip r:embed="rId2"/>
          <a:stretch/>
        </p:blipFill>
        <p:spPr>
          <a:xfrm>
            <a:off x="1403280" y="1920960"/>
            <a:ext cx="5924520" cy="13986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"/>
          <p:cNvSpPr/>
          <p:nvPr/>
        </p:nvSpPr>
        <p:spPr>
          <a:xfrm>
            <a:off x="5600880" y="3948120"/>
            <a:ext cx="30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ustomer ID appears twice in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Picture 6" descr="Noname.jpg"/>
          <p:cNvPicPr/>
          <p:nvPr/>
        </p:nvPicPr>
        <p:blipFill>
          <a:blip r:embed="rId3"/>
          <a:stretch/>
        </p:blipFill>
        <p:spPr>
          <a:xfrm>
            <a:off x="789120" y="3402000"/>
            <a:ext cx="40748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6800" y="444600"/>
            <a:ext cx="8028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EQUI-JOIN EXAMPLE – ALTERNATIVE SYNTAX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E44F-E1B4-4163-AF0E-7C698054B78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9" name="Picture 8" descr="Noname.jpg"/>
          <p:cNvPicPr/>
          <p:nvPr/>
        </p:nvPicPr>
        <p:blipFill>
          <a:blip r:embed="rId2"/>
          <a:stretch/>
        </p:blipFill>
        <p:spPr>
          <a:xfrm>
            <a:off x="960480" y="1627200"/>
            <a:ext cx="7021440" cy="19368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4"/>
          <p:cNvSpPr/>
          <p:nvPr/>
        </p:nvSpPr>
        <p:spPr>
          <a:xfrm>
            <a:off x="3490920" y="2406600"/>
            <a:ext cx="3219480" cy="349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496800" y="3575160"/>
            <a:ext cx="8352000" cy="26542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INNER JOIN clause is an alternative to WHERE clause, and is used to match primary and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n INNER join will only return rows from each table that have matching rows in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s query produces same results as previous equi-join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08Z</dcterms:modified>
  <cp:revision>630</cp:revision>
  <dc:subject/>
  <dc:title>Advanced SQL</dc:title>
</cp:coreProperties>
</file>